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1.jpeg" ContentType="image/jpeg"/>
  <Override PartName="/ppt/media/image9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2.gif" ContentType="image/gif"/>
  <Override PartName="/ppt/media/image25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50E-B113-4205-A084-6C9F797F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5AB-C907-4AAE-920A-159AFF8E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081E-C712-4946-96D8-2C8FE5F2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F938D-2A82-4662-AD76-5922558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EEF8D-6E53-47F1-AAB5-1C906A7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2BA02-A3C8-4421-A221-2442DF4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707CE-6510-4CC7-AC58-1F042E8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4ADA7-BC54-4443-82DE-56FF7D7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71866-105F-4BB0-B75C-D7F5C435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CE031-7F33-45EC-8898-8686575F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065E9-4AE4-4C00-83F0-2A203E2B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565B0-2F84-45EA-9FE7-BBC36D70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CBD-1D9D-4E77-80B8-ECB0296D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2D019-1BDF-464C-AECE-06DDDB66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3C80-E63D-43A7-91A1-73EAFA9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BBB07-2240-4223-AA58-3DD63BBC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776A8-46A2-49BB-9B44-5094539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A3F69-072D-4DDB-9930-9335B33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6FAF-D096-4041-8BDA-1A951E6C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3A41A-6CA0-45DD-AF1E-06AF7A5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94CD-BA73-4D5A-9A3E-E89C939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002C0-D5CA-47C6-BFFE-3F015C3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FE4D7-8423-4459-BDDE-2850632A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28F-348D-4AD5-B411-C38B0E72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97307-C2C8-444F-8B1C-E05B04C8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EB57-4B92-40E8-A068-B3048BEC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F38A2-5447-4DB5-A440-3087DA4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BB672-0EF2-40EB-84AC-E75D496E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20110-4BA4-45F8-A2C6-C0349F89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A020-AF21-44F6-8C33-43A9535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08854-DDB7-462A-88B2-73D3EBFA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3057D-098E-4071-84ED-3F18C8F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F142-C4FE-4340-804F-786DBAE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1E3A3-1DE3-4A14-8343-EDF3638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B743-3788-4E32-A6FB-8C89FA79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AE54-42B3-41CC-9E2B-2271E12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CAF4D-0046-4F59-92C4-D5C5BE63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12FA9-D89D-4C34-9988-3FFB80E3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AC590-05B8-4296-8653-2C7B67F1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BA909-EE48-4C21-9AAD-D65DAD8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3BD2-6A28-4CE9-AB42-701353B0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CBD2C-7425-40F5-914D-4D89AEDB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2A985-B7E0-4D8A-AF9B-A85A834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70B33-EF5C-44C8-B807-C039621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9B6BC-F537-40C4-825D-A069673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D9D-C83A-4AA3-A18E-A834C89F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98BB6-72B8-466A-ADF7-E31AD52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C2367-1B42-4333-9516-287A95A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6C5AF-4B9A-405A-8618-698099C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4BBFC-4E5A-4456-8ED9-E29C2AA2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CA42-D039-40AB-A3F9-6AC874AE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C0BD0-B3CF-49C8-9A1D-A8DC117A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A91A5-BEC2-487A-AE7A-D27A762B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D0F86-09D0-43FC-8E57-796F149F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5C4F4-5774-4D58-9E5B-886B98F8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0F737-4BC1-4279-B6D9-4D3106B8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2EB3-A7FC-4D05-9156-C9E3DF9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D7AF0-E7AC-49B7-A1D1-6B8DD7E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49E26-2ACC-4040-9718-850428A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45F4D-8CF4-4B85-86E4-7EB30C4C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1C882-2BFD-4DA3-88E4-E82AC578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07C61-9361-4A1C-8CA1-80D8FF3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D3BB7-D52F-4063-B530-80A8D121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A1BAA-928C-4CBE-8D4A-A1075221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5A70FF-8B3D-48D4-BAD5-EFAED49D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FFB51-9F77-47D1-9B96-D9DC9E2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F2593-9192-439E-B274-3224FFF1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8C4B-6D86-4D3F-A8F0-0F32D600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C406C-4307-46CF-BE3F-1B25D41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33A63-FF75-4E2B-9D83-D05784FF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0B8BB-93DD-4F82-8846-E2FD4E0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1932B-57C3-4D37-9EA6-958D336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F2D2C-847D-4E72-B4CB-8485823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33187-7A70-4570-8E52-F877C889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B252D-A137-48F9-AF15-74003EC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384C7-AFA1-4D8B-9E91-6063F3CD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F0542-AF4B-4A93-960D-B29E9F7D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75625-9F97-4189-BCBB-999BB4FC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275F-4562-4E5E-AAE0-C5152A8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45317F-3A64-416F-9495-2C61C5EC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BD9EE-9A5B-4B60-805F-C612CC9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125E1-112B-44BE-977F-AD7835A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6707E-EF4E-4109-8739-52F0CEC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0EC36-F215-4471-9724-6B0F6EEF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B64E9F-3E89-4684-BA0C-DAC9CEEA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E1934-FF52-4806-A237-772B3D6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87319-E574-4461-8D43-C79D8C2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B0854-F45D-46E5-8025-2DDC4AD7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1FFFC-9075-40B4-8E74-56E24F21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AC25-98BD-4224-9177-A5E4C1FC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988C8-5B8D-48D3-B936-260EC59D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96DCA-D824-4F32-AD94-37A41321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60D75-7794-4CA4-B55E-E588C52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C9DB10-BBAA-4DA5-80F7-119AA2E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0B4B5-8246-4BF9-BDE5-DC3367E7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0B146-5B85-4432-9C4D-8D0F4207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A69FB-E05F-4BDE-A347-925E713B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B7F30-F3A7-451B-ADFE-3272F223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6D21F-71DC-4D8C-9F34-5CA4A55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848D3-CEBD-471E-9F16-C174AE5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3D8E-1DEB-4873-89CF-28B1F7D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EE666-2984-47D5-8AC7-1609A5C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FDE94-4B43-466D-BCBD-2C34F834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EE4A9-3438-44C2-BBAF-DE395AF1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E2D04-982C-438A-9F24-14C0B9D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F8B80-B572-4E5A-A464-4A529A05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A8F1D-7C9B-46BC-B941-2CAB2667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1A28B-FD6C-41B4-8932-7D7FC64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456A23-DC0F-4498-B0CF-CD1C2ED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4E2A7-A130-4855-91D5-076342D6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DFB57-86FF-4821-8D9F-635784F4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7F0-D1E8-43D2-801E-F3AA0F0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2CE-54A8-4522-B3E6-372CE59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82EE5-95E7-4992-9EFB-5E873F0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732FB-D376-4927-AFBE-6F9414B7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8712F-B0C4-46A2-8F47-316EB64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B6334-7FE2-4541-A00F-F4B2ACDA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D4146-9330-43C4-B2D9-A0D359F7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C4E0F-D051-4F38-BCEC-F6A9449D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2F088-6409-4357-95BA-D7B6610B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36E5B7-FE23-42BA-8B74-4F4E388E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8BAE4-11F9-4250-954B-5DA3DBBD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F85E2-7C55-410A-A450-EDF98964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9420-9D34-43DA-B91D-04B0DE4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9D15AF-8074-4280-87DA-C1ABF6C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EA1EB-29E2-4273-B20B-5BE73ED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3E2E7-5DD4-4FF8-B2FD-8FEF4195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D0E2C-0D82-4338-86CC-C350F3F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6A87C-9A2A-48A6-B946-00C5CB6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7F20B-3891-4868-92A0-055A037C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E094AD-BF55-4C4D-95A4-C9F3313B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B0C63D-B916-4BAA-A930-C69D073C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5B7E7-94B0-4B42-9991-05D30F44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13B40-535B-4B17-B202-CE5FE0C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BC44-C27C-4BA6-9508-BAB9DE67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7D529-86EB-449C-9583-0D1E5349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CCA68-295A-4F65-A6EE-20BFB7FB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AF2E27-B0F6-4A70-AD5B-CE9E9D6A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2D7A72-B58F-4F78-8B87-162218A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41624E-A14E-4DFF-A5E7-4A1DA4F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B0DC3-7106-4278-820E-85B76F3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ECF70-3AD7-4A62-97E8-6F932178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B22A0-CA2A-4BB5-BD45-7D67F8F2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E191D-2681-4B16-8190-1AE9B730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B44BC-1712-4491-934D-77D0990D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6733-DDC7-4A73-87BB-E2C2E066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B63A5-F8A8-4598-81D6-2AA7160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3FC8C-6AAE-4A4F-935B-3B94CD05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DCF49-334D-474F-87CF-EE4BA8F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34821-E5C4-4D51-86FD-00397BC8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03555-1F7D-421E-B1B8-8E681B8E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27F23-9E25-4165-9258-151408F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C524D-54C4-4BED-BAB0-2B70D68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020C1-8654-42D9-BEDE-11DC2D89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448F5-6E43-4575-AB20-D5B65549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E4E0F-53EB-4DC5-9B55-FD0691B4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E5F-05E3-493D-8FC0-0A2714DE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4FAF2-1B44-4060-94E8-591FA260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377EF-7306-4014-B84B-5DDE04D0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E1B44-9F12-4F06-9518-E1FECC85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38A17-4FB9-4C6F-B971-DC7FFD89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32F1DA-27CE-4369-98D2-0830E22D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F3B71A-072E-4423-9D2D-96D5AB3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6D3E01-E724-46DC-AF80-BE356AD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776B8-AEC0-45B4-A4AA-CF86F2CD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C58AF-49C7-4270-A3D3-9B166964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CCBB11-AD06-4E96-A9A8-500BEC1B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20BE-0111-4FD5-9D19-553ED9F9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832E8-D32F-4100-94E8-51DD9E6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A979A-7946-4D08-93CD-D4004D18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DC81F4-4566-4A2F-8950-4D2F7EFB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D8A6E-440C-40AF-B65A-2CA03A3E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D0426C-A79A-48ED-BD27-6E565A1E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0A137-1445-4B29-BB51-895EE96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1CE1D-D41B-416F-8EB2-130B1B7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4BBB5C-B37B-4BF8-BFB7-8AB3CC5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F0745-6567-4CDD-A70F-7A190AA0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80219-84C8-4C31-B38D-AC29B3F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2498-CED4-41DE-AE5C-06FFCA33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FA36C-2483-4915-8263-00BA6175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1F6F29-860D-41E2-BE08-B804C52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6ADC51-8656-4763-91B9-9BD060DC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6C200-5BCA-448B-916E-05037A6A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EB905A-77C6-4032-AA96-9F564168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4DF8BF-E612-4669-BB42-B928822E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DB4385-04E7-43A4-BF4D-42C16167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ED8300-7A96-4EFB-BC24-16B4C8C8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E5491-C155-448C-B061-889F2C89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93F30-054C-4339-8AF0-FD86A07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9466-F36D-4B2F-9106-7BAD5E8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C6D54-F8FC-4BC5-8731-FAF0662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3B880C-22FC-40A4-88FE-3BDA2CE4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8C25E-8C4C-4E41-95CA-F6802C6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DB8DF-EEF8-4DCA-83F3-CCB78F1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308C0B-2A87-41BF-9E03-A6A46BCE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18EA56-D3BA-46C6-93E7-40CAA4FB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37972-49EF-4E6D-B94D-44E754B4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63BFBC-9081-4514-92D2-E3BFE63C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D23FA-67A5-4B42-B2D9-94F2102C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C3008-D223-444B-9570-A3ED1A1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2907-EDA0-4E0A-9756-09DADDDD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380AC-68A2-4D37-840A-77F30C6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611A67-2E75-4AA0-839E-184B6303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11BCA-8B22-4861-AD61-BA16FA7A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769A50-A779-4E4F-BB03-ABF05C82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A60E6-AE0A-4F74-8C5B-100024DF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437C7-CF44-4C5D-828F-EEF9DCB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B6BEA5-5EFB-4748-81E7-A8300FC4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893832-9933-4463-9EDF-7FEA1491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352F8-485C-49F2-B15F-65D7C11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7A3129-4744-4A05-AE1B-F32E2B61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30C4-CE8D-4425-8A45-0BEDAB92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B50A4-CA49-461C-8365-E88209B9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C67802-A69F-43C8-A4AE-31B49EE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01198E-C788-4271-8F20-F40F0B53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A7F44A-D9F4-4803-8D61-9B3950F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F39A0-C1B9-4A96-B71E-08927C80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183A3C-FB00-4AB0-AE5E-2E2A8C2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99A3F4-D3BA-4C9D-88B6-551030F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AE1B89-1391-411A-AD36-938B556A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B44943-23BB-4179-AFCE-A9A261A1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80308F-62AC-457B-A532-857C1961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B2B-53BB-4BEE-A88B-D39CC485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D81F-4F3F-49DB-8905-C931184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165C2-74F3-4FAB-AF7F-FC1E108E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19ADB-693F-4B2C-A214-B7F8346B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19E1B-E2DC-4039-9225-F4FA2F2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301A44-C20A-4048-96D1-33C3F433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0872DE-ACB1-41BE-AC82-7E35D388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1B54A5-7796-4B8E-8A67-B1E0218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0C46AE-195B-442A-9F33-EE5C081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591AA5-D19F-4798-AD4E-79294EF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4C0A1A-E520-41E0-A845-B4EC2D47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FC6D1D-402A-4E63-9C5B-A956E4B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9F05-6B15-4B32-89E5-A73BF4DB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D150C-D6DF-4125-B010-E5810F50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1D376D-F748-4BB3-A4DF-E1C149C3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5D9E7E-91C9-4260-ADFA-A1FBFD36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C329B6-DF31-4705-9213-571A6D81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29669E-4992-4CB1-A07F-841226D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5D28B7-2886-448D-B703-23FA309D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920189-D103-4B70-B65C-29E7FFE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ED5BA5-2E28-40EE-82AF-5F6EED0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EADB9F-D83C-4ACD-9592-F5A30A0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7FB5AF-AB58-4551-BF42-2B79450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34F9A-2298-4264-AE91-23A5DC8A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D7E173-602B-40CD-ABA6-BE9CDA76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79D8BC-43E5-4AFF-9700-F187A0C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EA3FC7-7915-48DF-8C38-3EE6C85F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9F28EC-3AE8-4863-8006-A10F241B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93561E-C8F9-4718-9274-2A81EDC8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75D295-E7F7-4DB1-A7DA-F6EBA1BC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0309A9-37A0-44FF-B7EA-A24E6E7C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627BA5-E9AB-4F01-BC01-D07FF0A3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D51824-C77F-480B-8E09-DE81CA9D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819267-6B5A-4DB4-8F9C-915749A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80EA-C7ED-44BE-9D06-C8FA450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974CA1-490B-4F9F-BBA8-487750E3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EA1A3C-D366-4D2A-B3F3-132E949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0215DF-86CF-49F8-9D63-45E59150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885B57-FB0C-4181-B4A6-5CE855B6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3BD266-C650-4F9C-BF4D-A83F3721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7B8F49-8E5B-4FA7-9F9D-817E3684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258135-1CD6-4044-812F-FF2165AB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15C025-F10C-4D3C-A160-872366B0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13B14C-9F3B-4A17-BDFF-AA9344C3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FEF2B0-D589-4BAE-AA64-E6BBC9C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003A-E60D-4B81-A058-0C8B2D8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6460AF-F1AD-417C-A46C-0BD93F5E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28310F-DBBB-4BD0-A055-C9D8869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C912AC-E948-45E4-B389-BAFDBDD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7B3E24-CC8C-4DE9-A1A2-D097C21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8DE729-20E3-44DF-BCD5-5E64D6ED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319ED2-0488-4213-B694-ABDB809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355C48-C3C8-4959-AB66-357BDF0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D627C4-4C30-4959-B818-E27B62D9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FBDF61-8361-4894-AE38-B4A3F7AC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0F411D-4333-42E4-9BD4-24CCB959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BBAD-D45A-4E8B-BC08-B0B97612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03E06E-07F2-4E6A-8878-F05473A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BA1E25-2843-44E7-8D14-98EBFCF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EA7DA2-D2F7-49E2-A502-83AC3D9F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14CD1B-FC12-4B89-9873-C0F1A45B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F20EA1-2264-4529-B247-711656CD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14EDD7-9150-448B-9948-5D0759FD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83FFFE-2DEB-4CD6-BD88-366B8B18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4E9B7-03FC-498A-AEB1-27C602E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B370A1-CBA0-476F-9471-F2CDB032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20B784-F366-42DD-82CB-8ED4FC59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7F94B-78CB-4DB7-A57A-C47D801B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CC19D-35B6-4FC1-B8C9-DC080446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A8E4A1-F9F6-4C1B-9B80-6C47366A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784E88-01FB-4D05-9C20-9D49E94E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A13264-0610-4AE9-B2A4-C5B646C8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346C56-B704-4FD3-9A04-ACCFDDA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D28C15-ACE0-4938-959A-2E188D1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C6028D-E411-4DD9-92BF-77DE6245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4BF7FB-ADB8-40E5-936C-1179A4EE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F833AF-7C89-4824-B717-CB1FB46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C1008A-276D-450F-920A-F337E31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941F-246D-4713-8C79-B17323B5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50966B-9796-4AF5-8131-CEDAD67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29AFA1-3A2C-4671-ADA5-B094CF76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262C4A-3CF2-4B24-B9B7-A0654F64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1B8831-4446-4292-8868-FFE90BBF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47BC03-E2A9-4A21-BA6A-9B9498A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048040-8B99-4557-AA1D-AB44A56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87D91A-AEAF-4AFF-824C-72B363E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3FAC31-11D7-44F9-AEEC-0EE78D1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84401B-BA97-454A-874D-79730071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BA64DA-8D08-429C-A705-CCBC5DC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9027-53AF-4ED6-9899-15AA0463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E3A836-1FBC-4CF9-A356-E62B216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61C6E4-D290-493A-A47F-C1233BA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94EDA2-B89D-493D-B50A-85B4B5F6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49876C-E95D-43F1-90AA-1D7F8BC1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8D19EE-99FF-496D-93D2-4476FF47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38438D-AA91-42E0-8648-E94E5535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42309F-DF7D-45E8-A49B-246AF4B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57D4F8-7EAF-4602-80BF-3DA68A85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DB7638-CC67-459B-AC41-C188D0C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22EC28-091C-4B58-9C24-E4D229D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DD22-6BAB-4020-BF52-E0107D9F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5520A5-FADE-4A0A-9083-8D08070B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BF0E39-0B10-44D1-B04C-E9BB527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3FB09E-26E7-4B2D-B4AB-BD9D7A7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9F6CE4-1A51-4434-87B2-59FC39EC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FAA6EF-5AEB-41BC-9296-36D0253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0B9D59-26CD-49FB-B7A5-366E18CD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E6005B-2153-4629-BAA2-7E7D00DA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4F1D29-C8FB-4B2C-BDC4-81853E08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FF2D58-322E-4A67-9D2B-BEC247B1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885F23-8D08-4809-8176-F93E4BE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94A-F346-45D7-80B5-3C055A08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6F042-D636-4539-BF60-6462F053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0E3348-878C-4F1D-8FD5-1930F6B3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CEA0DE-1F95-4651-917D-C141D05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27239E-416F-4111-B70B-04F7C4A3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AE7B09-007D-4F88-81F3-E2925A2D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D8A6DC-AF60-4F68-BCB8-53ADAA0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3D3262-7649-4C49-AF4B-3987AC3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A17111-D612-460E-B206-03AC563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901613-90DF-4D33-B158-441D7E53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C0D444-7CED-432A-B4C6-BA666A64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AAE275-D61A-4685-B395-A0C44D55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F588-63F7-4291-907B-CAFE11D3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AD9B2E-5428-4D25-8C7F-13CE1A2E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D09BC8-946D-43B1-92D7-BFD5F943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1B8409-32FD-4589-B78A-8CFB68DD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06CBA1-48D7-4BD2-922A-49998012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4C279E-4D0A-4B78-AF32-9059FE6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F54E60-38F4-438B-ACFC-5555C1D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C9F9B7-5EC8-4C5F-80E2-FE78BD6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8E482E-8CD0-4F93-A951-EA82AE6E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6D27D5-316B-47BA-B514-2650D5F1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CAC25C-6D7A-40C1-929F-EC7B19EA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04DD-1F9E-4FD3-8DBA-B18F3D08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68900F-3901-4F87-87CB-0C36C774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255B17-154D-4BD2-886F-60D9383E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462796-B523-4FC1-BCF3-BFBE53EA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86622E-6C3B-42F6-9B0D-9DE9613E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5DB6FE-3AD7-4FAF-838A-882D07A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9B547E-8956-4037-BD76-16D8CDC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163D56-2E66-41AD-B11B-7659F4E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5F2158-BF8A-4A1B-B4EF-AD1B62C8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D93986-E69A-48FF-B243-9E143151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8488A8-78D0-4902-AB2D-35C7663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9807-3B79-4F36-812D-54CF144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4D613E1-3EAB-454E-A4F7-C99677BE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A6045D-893F-4889-86AB-6AE31F68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682112-A5F4-4B56-ADE3-CD9E9E6E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E24691-E84B-4D95-B0D5-62570B76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3FA8827-F898-4069-807A-7BE036B7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5E615E-E7F0-45D7-921A-0C4F6923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D90427-2DD3-421C-B170-83959606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F4AD03-1742-408A-8D27-EF0A564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D41201-82DE-48D3-AF18-B730811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54DDCA-576D-40FF-B0EF-0BC79CA7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46AD-F83E-4DDD-9971-29EB917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FF4193-08B7-4BA1-9A68-7473AED7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B1E92FB-1176-47D4-955B-AEEE67E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CBC8DA-D5B7-43DB-B5E8-7A9AD53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D9A252-D415-4D2C-B5A1-2E003662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151FD73-468F-4412-8B22-1D033A1A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B48EF7-E5CE-4761-9CDE-B809FC16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603747-9C04-4B1F-BAC4-0382EA1E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2B2C6A-720F-422B-BC61-FA575A12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08625BB-2FF3-47E2-B818-92C8EB94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5778A32-80EB-407E-9FB0-5CB2AA65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65AA-C987-4516-92CA-145B638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75AA11-8EB9-4896-8900-F8AAEA4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F56315-58ED-4C7B-BA5B-7725B9EC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81585E-799A-4CC4-9AAA-743D347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7E0DF64-A9E6-4566-AA81-F052290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A943A64-C055-40C9-8277-13E7CCD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51E453-7962-4845-9993-25BEEF0F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5DCC91-BC05-4728-882F-B2FBB198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AA98E-929A-4B1D-B653-30467768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28D8-1E31-4741-A7C4-5AB71C3E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0A75-F7A0-46D4-8E29-4D60DD2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80276-35DE-4015-8425-F2D2E243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A6A-6AE1-4DFB-A261-D13C389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D042-8D61-4DD0-9C99-77333B6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0FC26-FD74-4BE0-89BA-920067FD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D954-B3CC-4664-9E89-6239EDF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60BE9-998F-4D2C-ACA7-8037845E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5BC1-BA16-42F8-8A1D-32F6B2F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76FC-EE09-4BC9-95F9-D05ED71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811A-3CB5-48C4-B29B-30B398E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9D97F-48CE-4A4E-9C6C-619EEC25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82DAC-0D31-4AA7-8742-32737E1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2B18-AB3F-4E81-BC1B-7E91585F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E1C-8BB2-4594-82C1-998C2208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0861-20E8-48DE-BAC5-F8992357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0E66E-48B8-4528-9BB9-315F565E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D313E-42FE-47E0-8F28-9149C87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AACA4-5265-4F6A-B62A-DA3A470C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FCFA-0D59-4982-B845-F9A3604C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5EA3-B960-47F4-BA36-8FCAA33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4C029-B40F-494F-B039-B9E71C9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836D-BF45-4812-9148-1FA9567B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97E2-E253-48AB-9C73-29BB3CC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CF59-884F-4959-991A-BC3A777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85E-5274-432B-87DC-4C59B02D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C2CA1-33E4-4C6E-BB86-A2CC60C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239F9-05AB-43B7-99D3-1C2E1829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21A9-976B-482D-996C-2ADE4B7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59C6-FE04-49EE-9A10-77DD359E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DA32E-5517-4331-B118-8D1C14A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38632-589F-4D4D-852F-0C6C9DBD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E75C8-155E-464B-9794-6C55B86C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AC483-1784-4D59-9468-8A6A9E76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91E39-05D3-4409-AC3D-C56EB135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64D7-BE0F-4F47-BF74-CC4AA00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FF2-8DE0-4C4B-9DBD-7AE68A9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4CB5D-7019-414D-B19E-D2B2A00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5F96B-E2A1-4102-B82B-041534A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10AE-837F-4CFC-9BDC-265DB56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499A8-5C94-4FCE-808D-712EBACC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CCBA-BE4B-4E8E-B1B0-CD35D137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0843D-1CB8-470F-81BD-9C1707EE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3100-DC6D-491C-AB83-1432C4FA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8F295-03C5-4287-8675-F7BDCE73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244C-09C3-47D1-9E10-2FF51B01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0F80B-938C-445C-BF39-60348ED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E30-DCEC-4390-8905-D4D6356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2F64B-D548-4840-A497-6DD0AE8B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CE0A4-38A0-486B-8528-177D483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67DCC-06BD-48F8-8F64-59F6EE2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FAD54-984A-44A2-ACEF-E2813C0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FB632-3757-4926-BD21-652D432F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4ED7-CA5D-463E-8F26-BAE72678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7A212-67F2-4BA1-BA7C-D60C2414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96913-4031-42B3-BAE4-E03129D7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3DEF7-130F-44D8-9D94-99FF2AF3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2AA3-F92B-4916-AC05-20636D3E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A61-3D4C-4B73-90F2-97327A58D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5E5B-7D8F-4ECE-9F15-97784A1E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5F6-8616-434C-93F8-E2633C0EB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1A1-A632-4CAE-B3AA-3B8A1416F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770-6AE8-4777-95C5-D1011AE75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85A3-4FD2-425E-AED5-E4AB277A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017-C3FE-4646-9343-15D578B8A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A37A-9648-40FE-86D6-C2205FE63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E7E1-2191-446E-8B5F-31589180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C0A4-A582-4858-A9AD-C699F2EE4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381F-C2D8-4971-AA1C-1AF2E07B5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8A95-78D3-4F93-ABDD-6B6C99B38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DEFF-C019-4706-AA67-F8FB32FEF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EFA2-D653-49BF-909E-EE7DE6502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445B-DB8F-4709-B470-55FB240E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054-E06B-47C2-98B1-88CCC181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2E23-BDA5-456A-B17F-DAC67A606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97A-FFA9-41AA-98E0-54B03779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D428-EDDA-45CA-9C4F-995C9C0B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ACE8-57A4-42C6-BD51-29F5EBFC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77B-8E09-4D68-9666-216DD461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B093-E24A-42F3-AC85-C32E03A85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6F85-56BB-48F8-9B18-FA3501F27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8E5-525A-4E80-8EBF-0EF276B5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E0A-658F-4129-8602-D01C90104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EFA1-5BFC-447D-9AD4-DA8583045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A07C-21AE-4D36-9FAC-BCA1AE788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8CA-0F12-4DB1-8DDE-FD1F6E5C5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253-D573-494F-8C51-313393D0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1A54-EF16-400B-886A-352C67FC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874B-B9A6-42DC-B355-0BA0E147D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415F-9858-4841-9EC5-601E0A627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758-46B6-45CA-9E1D-63222F3B1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D74-9C2F-4F7B-ACBA-B56D1D6E7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0950-0EAF-4E00-9F91-EF3FD015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2A0-5B9E-4461-82CF-D053762E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B6C-7A72-4927-904A-B26594AE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2602-E066-476E-B627-A2231E10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4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9-21 &amp; 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ystery Island Project Due Friday      *Geo. Terms Test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0" y="990720"/>
            <a:ext cx="3962520" cy="286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9-21&amp; 2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group or chain of islands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 body of l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ar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rrounded by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a body of water that flows through l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34"/>
          <p:cNvSpPr/>
          <p:nvPr/>
        </p:nvSpPr>
        <p:spPr>
          <a:xfrm>
            <a:off x="2057400" y="1676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rchipel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35"/>
          <p:cNvSpPr/>
          <p:nvPr/>
        </p:nvSpPr>
        <p:spPr>
          <a:xfrm>
            <a:off x="2730600" y="2386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eninsu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36"/>
          <p:cNvSpPr/>
          <p:nvPr/>
        </p:nvSpPr>
        <p:spPr>
          <a:xfrm>
            <a:off x="19810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15" descr="http://www.riversportstubes.com/Guadalupe-River-Horseshoe-L.jpg"/>
          <p:cNvPicPr/>
          <p:nvPr/>
        </p:nvPicPr>
        <p:blipFill>
          <a:blip r:embed="rId1"/>
          <a:stretch/>
        </p:blipFill>
        <p:spPr>
          <a:xfrm>
            <a:off x="4038480" y="3468600"/>
            <a:ext cx="5105520" cy="338940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17" descr="http://www.tahiti-tours.com/PicsHotel/tahititours/Images/frenchpolynesia.jpg"/>
          <p:cNvPicPr/>
          <p:nvPr/>
        </p:nvPicPr>
        <p:blipFill>
          <a:blip r:embed="rId2"/>
          <a:stretch/>
        </p:blipFill>
        <p:spPr>
          <a:xfrm>
            <a:off x="4800600" y="914400"/>
            <a:ext cx="3624120" cy="259092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13" descr="http://upload.wikimedia.org/wikipedia/commons/thumb/5/5f/Baja_peninsula_(mexico)_250m.jpg/237px-Baja_peninsula_(mexico)_250m.jpg"/>
          <p:cNvPicPr/>
          <p:nvPr/>
        </p:nvPicPr>
        <p:blipFill>
          <a:blip r:embed="rId3"/>
          <a:stretch/>
        </p:blipFill>
        <p:spPr>
          <a:xfrm>
            <a:off x="838080" y="3505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4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4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95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0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603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6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6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68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614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5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617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619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2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3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5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0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1T12:50:26Z</dcterms:modified>
  <cp:revision>34</cp:revision>
  <dc:subject/>
  <dc:title>Slide 1</dc:title>
</cp:coreProperties>
</file>